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16D-5A82-47FB-A5CA-8620AB1F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1D6-9D0C-43C5-91EC-A6DDB2DA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271-0260-4A62-A35D-121AC2E6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026-BA86-4942-A20C-2232EB87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C7C3-7BD8-4A6B-BADD-178607C9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0847-CC8C-4AD6-9348-36CAD19B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D5D8-A957-4A7B-B2FF-8F104E9B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0CBB-4BDB-4D2D-BF27-ED2B7220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2656-2C7F-454F-BB50-D0963454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03C7-2D97-4468-91DB-D2581786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8C3D-4281-418E-B718-ECA2362B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2B5-517B-4567-959A-0D6D8CDE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56C5-59E2-44D4-BD0E-73431DE7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F935-98AE-4D39-9DE0-9B781E46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ACB2-5511-465B-8946-4A30A815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5ACC-411F-4FDD-9148-9DE29303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16F0-D107-49FD-9C88-9EBE9251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6800C-3087-4955-8701-BF141F12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F960F-943E-45D3-A087-0563E186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B1F16-A565-4BC4-B24A-09BA4FC0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E7CF-EE8E-4C01-BFA6-4A154C25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5902D-A3DF-4AA3-93C6-FD43C6A5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D49-D52F-46D3-B490-13252441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6F38-67AD-495D-B34F-2855BE44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E559E-3249-4D69-A1B9-6D9F85E7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6D7D7-013D-4B12-8CD2-3BFE3099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0993-1A00-4161-81D0-C7EC1340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D7038-9797-4B22-B63D-3C1C76BA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41BB7-CCC4-4548-BB46-ACB9A3CA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6081-A70A-43D8-A4A4-EC7CD166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19E-9345-476B-ADFB-9E1D42B1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D5E-2256-4DA3-8E18-936D818C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8AE-4623-4961-B33E-1ED17D53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1FE-ABD9-4227-8C44-08346866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ADE-36DD-49D3-B0ED-F383DD25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68F-8AF2-4E94-90B4-6DB12295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643E-58A5-4363-B18C-0FDE29821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FCBB-F2F9-419F-894F-071DBADF64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5F5F-4E4F-4092-ADF1-20CD7EDAB9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197840" cy="24130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NFERENCE Poems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362320" y="3390840"/>
            <a:ext cx="6400800" cy="2743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ch Me If You Can</a:t>
            </a:r>
            <a:br>
              <a:rPr sz="2800"/>
            </a:b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somebody hits m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rowd always cheer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don't understand it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it brings me to tears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thrills people sill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row me arou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make me go bounc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ross the hard ground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have I don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eserve this cruel fat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ve gone from just ma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ompletely irate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m battered by ba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to make the crowd shout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am sick of this game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's not safe, I want out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AM I?</a:t>
            </a:r>
            <a:br>
              <a:rPr sz="1800"/>
            </a:b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80240" y="361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to Chango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m a powerful stick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m a masterful thing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go "poof" and a flow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s into a ring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go "zap" and a bunny'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mall, yellow bird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change anyth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just one magic word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ng magic is gr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crowd loves my work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say "ooooh" and sigh "aaaaah"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kids go beserk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's a wondeful gi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I'll never regret it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at silly magic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s all of the credit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M I?</a:t>
            </a: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80240" y="361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ld Hard Fact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I'm very squa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sometimes I'm very hard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heat me up and so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ve melted like a tub of lard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look excellent in glasses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look lovely in a tray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ith me inside your cool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picnic all darn day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kids fall down in footbal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make sure their wounds don't swell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en someone has a bloody li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omfort them as well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eat me when I'm solid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drink me when I'm not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although I suffer freezer burn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m not what you'd call hot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M I?</a:t>
            </a:r>
            <a:br>
              <a:rPr sz="1800"/>
            </a:b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680240" y="361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ing The Grade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ever a teacher announces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'll prob'ly be coming real soon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ds scramble for books, study 'specially hard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z they don't want to look like a goon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when a kid takes me home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m displayed proudly up on a shelf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other kids don't give me credit at all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I don't give out credit myself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to earn what you get from me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m an honest reflection of you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teacher writes down some big letters all bas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your work and the answers you knew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whether I'm covered with A's or with D's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ether you've passed or you've failed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remember, not bringing me home doesn't work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 hey, I can always be mailed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680240" y="361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5:55:51Z</dcterms:created>
  <dc:creator>North Rockland Schools</dc:creator>
  <dc:description/>
  <dc:language>en-US</dc:language>
  <cp:lastModifiedBy>Beth</cp:lastModifiedBy>
  <dcterms:modified xsi:type="dcterms:W3CDTF">2010-09-04T21:55:17Z</dcterms:modified>
  <cp:revision>9</cp:revision>
  <dc:subject/>
  <dc:title>INFERENCE EXERCISES</dc:title>
</cp:coreProperties>
</file>